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B22-81D1-4916-9090-BBB69EAE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394-71D7-463F-9867-1096DA3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67D-1683-404A-AE84-89B24520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C03-BD88-4475-A0F4-2EBD6A5F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BB1-4576-4604-A4C4-1482176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FAF-17C6-42B7-AE0E-E445581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344-3452-4101-9FA2-2F789B5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F93-054B-478B-A250-93EA15A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881-6C5E-4367-872B-F7E600D5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D4E-A002-42D7-AEC7-D4B0AF5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36E-F449-4DAC-BD4D-C6C45EE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B2D-FB75-4C93-8ADA-F5E48D3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1DF7-6362-4F5E-BF6C-FB0787A08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280" y="1071720"/>
          <a:ext cx="8839440" cy="47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71720"/>
                    <a:ext cx="883944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3:50:50Z</dcterms:created>
  <dc:creator>Sudhanshu</dc:creator>
  <dc:description/>
  <dc:language>en-US</dc:language>
  <cp:lastModifiedBy>Sudhanshu</cp:lastModifiedBy>
  <dcterms:modified xsi:type="dcterms:W3CDTF">2009-01-27T23:51:31Z</dcterms:modified>
  <cp:revision>1</cp:revision>
  <dc:subject/>
  <dc:title>Slide 1</dc:title>
</cp:coreProperties>
</file>